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271-B1FD-415A-8A2B-57028C2D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333-40D2-4EB7-ABB3-6325722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8CB-92D5-4295-95C3-FC97B972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1E4-B188-43CE-8FB5-19BA021C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FEB-1798-4694-9DA6-BBC61213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2F7-B2AA-4328-AFEA-AED51EED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7B4-07F7-448A-933D-D870101C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17E-1A4F-473A-83D2-D7825C7B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8B8-AFAB-419A-875E-C8507491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1FA-C94A-4ED9-B8ED-59A073D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1E9-9D9F-4930-ADA9-74E90237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70A-1240-42C4-9A1E-052DCC2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FA59-FF84-4A34-AC0D-713BB5840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413000"/>
            <a:ext cx="77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OLON AMETS BATEN BI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KOLONEN ITSASONTZ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BI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BIDA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801"/>
                </a:solidFill>
                <a:latin typeface="Showcard Gothic"/>
              </a:rPr>
              <a:t>AURKIKUNT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76280"/>
            <a:ext cx="3389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URKIBID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KOLON HIRU ITSASONTZI ERAMAN ZIT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AMERIKET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LA NI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801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801"/>
                </a:solidFill>
                <a:latin typeface="Showcard Gothic"/>
              </a:rPr>
              <a:t>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310200">
            <a:off x="1763280" y="188640"/>
            <a:ext cx="496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OLONEN ITSASONTSI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79640" y="549360"/>
            <a:ext cx="47559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TSASONTSI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2586240" cy="228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989000"/>
            <a:ext cx="1368360" cy="935280"/>
          </a:xfrm>
          <a:prstGeom prst="rect">
            <a:avLst/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LA NI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1484280"/>
            <a:ext cx="1657440" cy="1295280"/>
          </a:xfrm>
          <a:prstGeom prst="rect">
            <a:avLst/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LA SA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(ITSASONTZ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1844640"/>
            <a:ext cx="1297080" cy="1297080"/>
          </a:xfrm>
          <a:prstGeom prst="rect">
            <a:avLst/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LA P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801"/>
                </a:solidFill>
                <a:latin typeface="Showcard Gothic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232000" cy="220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1828800" cy="2504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9345800">
            <a:off x="899640" y="357300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345800">
            <a:off x="3492000" y="335736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345800">
            <a:off x="5940000" y="328428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56000" y="4869000"/>
            <a:ext cx="38480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AKIN AITOR A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RAY DANI NAHIKA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ª LUIS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920" y="1268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010f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KAERA</a:t>
            </a:r>
            <a:endParaRPr b="0" lang="en-US" sz="1800" spc="1" strike="noStrike">
              <a:ln w="9360">
                <a:solidFill>
                  <a:srgbClr val="1010f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0464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86064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476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8136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4653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85080" y="2205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60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33336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522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8Z</dcterms:created>
  <dc:creator>Ik015111zz</dc:creator>
  <dc:description/>
  <dc:language>en-US</dc:language>
  <cp:lastModifiedBy>Ik015111zz</cp:lastModifiedBy>
  <dcterms:modified xsi:type="dcterms:W3CDTF">2012-05-17T12:16:30Z</dcterms:modified>
  <cp:revision>5</cp:revision>
  <dc:subject/>
  <dc:title>Diapositiva 1</dc:title>
</cp:coreProperties>
</file>